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BA54-D357-4DA6-B2CA-5A74376BB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2DA4-3A9C-424A-B123-A920107F2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9CFE-9771-4359-9511-171644491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8FF1-17A6-44F7-9562-545973585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E8176-2235-49B5-BA75-2C0C7F717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A4B9E-F658-4F0D-A5B6-4F74724F8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6A078-AD0F-4730-9169-92778DC3D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D865D-1F01-4A5D-A0C0-22E79F7E0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FF12E-9483-40E5-849B-5EF2707A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90F66-0488-4D7E-A0CC-3E41C90D7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0A336-FE86-4BD6-A63C-AEFA607A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DDC9-C3F9-470B-A47F-8EB20D3E1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15326-FDF6-4DDB-837E-17E7C14C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967C2-7440-49BE-AE3F-89CB0762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44FAF-474A-4216-92B4-4DA30C925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E8B5C-DFA5-4D87-B8AF-5E959E076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04CF9-EF5E-49AA-8773-48F1BC96C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7FE6-1177-43AB-BF0A-409067A67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F917-189A-4F7E-AD52-081685061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1704-53B2-4857-9C86-DAD1D8B36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BB3E-1A98-4F2E-872D-C8B29590B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AA93-444F-42CF-8FE4-3BD378F5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0455-B71D-4F8E-8FAD-9B13FCED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8416-05AA-4548-8E37-CF6885F2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6793-358A-4973-81EC-DCFC7023A54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06022-2FD1-4CC8-82D6-AF8BB18161B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1920" y="380520"/>
            <a:ext cx="8077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200"/>
                </a:solidFill>
                <a:latin typeface="Comic Sans MS"/>
              </a:rPr>
              <a:t>Me llamo __________ Clase 6 NH</a:t>
            </a:r>
            <a:br>
              <a:rPr sz="3600"/>
            </a:br>
            <a:r>
              <a:rPr b="0" lang="en-US" sz="3600" spc="-1" strike="noStrike">
                <a:solidFill>
                  <a:srgbClr val="00b200"/>
                </a:solidFill>
                <a:latin typeface="Comic Sans MS"/>
              </a:rPr>
              <a:t>La fecha es el 8 de febrero del 201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5960" y="13716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Proposito # 39: 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Cómo llegas a la escuela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Write as many Spanish words you can think of associated with schoo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687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0000"/>
                </a:solidFill>
                <a:latin typeface="Comic Sans MS"/>
              </a:rPr>
              <a:t>¿Qué significa…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5960" y="914040"/>
            <a:ext cx="79246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pun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apelerí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ateriales escolar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iend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a caja </a:t>
            </a:r>
            <a:r>
              <a:rPr b="0" i="1" lang="es-ES_tradnl" sz="1800" spc="-1" strike="noStrike">
                <a:solidFill>
                  <a:srgbClr val="000000"/>
                </a:solidFill>
                <a:latin typeface="Comic Sans MS"/>
              </a:rPr>
              <a:t>(en una tiend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omar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levar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Ir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 pi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Bus escola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n pa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a tall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>
            <a:off x="2209680" y="914400"/>
            <a:ext cx="13716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no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09680" y="1371600"/>
            <a:ext cx="358164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Stationary st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114800" y="1828800"/>
            <a:ext cx="373392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School suppl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52480" y="2362320"/>
            <a:ext cx="13716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stor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2819520"/>
            <a:ext cx="198144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regis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52480" y="3276720"/>
            <a:ext cx="13716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To ta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752480" y="3763800"/>
            <a:ext cx="312444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To we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3000" y="4221000"/>
            <a:ext cx="13716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To g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52480" y="4678200"/>
            <a:ext cx="13716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By foo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14600" y="5135400"/>
            <a:ext cx="266688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School b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038480" y="5638680"/>
            <a:ext cx="13716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A pai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191120" y="6126120"/>
            <a:ext cx="13716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siz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Materiales Escolar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Nombra los materiales escolare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6.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7.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8. 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9. 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10.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80880" y="1884240"/>
            <a:ext cx="1685880" cy="15447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2133720" y="16765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4184640" y="2133720"/>
            <a:ext cx="1301760" cy="16761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5867280" y="2362320"/>
            <a:ext cx="1447920" cy="14475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7772400" y="2133720"/>
            <a:ext cx="1360440" cy="17524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6"/>
          <a:stretch/>
        </p:blipFill>
        <p:spPr>
          <a:xfrm>
            <a:off x="2514600" y="4495680"/>
            <a:ext cx="1093680" cy="1600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57200" y="3611520"/>
            <a:ext cx="13716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lápiz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3505320"/>
            <a:ext cx="13716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plum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057400" y="4038480"/>
            <a:ext cx="167652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bolígraf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62520" y="3886200"/>
            <a:ext cx="1676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cuadern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72200" y="3886200"/>
            <a:ext cx="13716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lib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96080" y="3962520"/>
            <a:ext cx="13716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hoja 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pape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52280" y="6431040"/>
            <a:ext cx="20574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carpe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362320" y="6095880"/>
            <a:ext cx="175248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mochil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762120" y="4343400"/>
            <a:ext cx="1143000" cy="11174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8"/>
          <a:stretch/>
        </p:blipFill>
        <p:spPr>
          <a:xfrm>
            <a:off x="5867280" y="4724280"/>
            <a:ext cx="1524240" cy="7621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7848720" y="472428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0"/>
          <a:stretch/>
        </p:blipFill>
        <p:spPr>
          <a:xfrm>
            <a:off x="457200" y="5410080"/>
            <a:ext cx="1028880" cy="9622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523880" y="53341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295280" y="61722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1"/>
          <a:stretch/>
        </p:blipFill>
        <p:spPr>
          <a:xfrm>
            <a:off x="4114800" y="4648320"/>
            <a:ext cx="1380960" cy="9363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809880" y="5745240"/>
            <a:ext cx="190512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cartucher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67280" y="5562720"/>
            <a:ext cx="16002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Borra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gom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391520" y="6019920"/>
            <a:ext cx="175248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corr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area # 3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1920" y="1828800"/>
            <a:ext cx="853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EXTBOOK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e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Palabra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. R 1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pia y respon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 Historieta 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. R11 (1-6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4:21:27Z</dcterms:created>
  <dc:creator>Helen Zumaeta</dc:creator>
  <dc:description/>
  <dc:language>en-US</dc:language>
  <cp:lastModifiedBy>Helen Zumaeta</cp:lastModifiedBy>
  <dcterms:modified xsi:type="dcterms:W3CDTF">2012-02-08T18:07:03Z</dcterms:modified>
  <cp:revision>6</cp:revision>
  <dc:subject/>
  <dc:title>Me llamo __________ Clase 6 NH La fecha es el 8 de febrero del 2012</dc:title>
</cp:coreProperties>
</file>